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1E4-0EC8-42DC-BF41-FBBE0689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424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989-7AFF-4E15-ADD7-3D326AF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00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535-4920-412F-A129-9522DF03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176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316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040-7B0E-4926-8B5E-ACD057FF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AE8-4499-4649-9DB2-F722861C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812-7E45-4723-BF20-0B044208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726-4112-4620-A2F0-B15D3ED0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5C1-9BF7-4DC9-A376-16793890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30132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008-AFC6-4907-A6AF-E00E9B3B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ED1-9E62-466F-A325-0AED786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00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E27-BCB4-4659-B46C-1255FA9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23E-2FEE-4E16-8805-734D5C9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346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6640" y="6346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81C9E-2B18-4F9D-B7B1-CD95AA8E0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UTOMOBILES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EVINEZ LA DECENNIE...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69 DODGE CHARGER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 GENERAL LEE...DUKES OF HAZARD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240" y="2232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ORD 1931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66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ODGE STEALTH 199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972036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HEVY NOMAD 1957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-179280"/>
            <a:ext cx="10079280" cy="750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ORSCHE 198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36000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TUDEBAKER 195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53928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80 TRANS-AM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'EST KIT DE L'EMISSION KNIGHT RID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989964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70 VOLKSWAGON BU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6080" y="360360"/>
            <a:ext cx="904392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34 DUSSENBER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53928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2:36:55Z</dcterms:created>
  <dc:creator/>
  <dc:description>Template created by Sun Microsystems</dc:description>
  <dc:language>en-US</dc:language>
  <cp:lastModifiedBy/>
  <dcterms:modified xsi:type="dcterms:W3CDTF">2011-09-11T14:12:09Z</dcterms:modified>
  <cp:revision>12</cp:revision>
  <dc:subject/>
  <dc:title>Sunrise Pattern</dc:title>
</cp:coreProperties>
</file>